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22E-5363-4565-9E8E-F086F534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468-8A03-4541-AC47-03FE10B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842-AF20-42BC-9118-64F26C9C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4EA-5683-4286-8012-1D58337B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0FF-F589-43A0-8F7A-E37C9A1F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0FE-2455-4A1B-9E61-AA113022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5C2-9586-40FF-9BCA-C96A50DB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3A3-1171-460E-BD8F-4773506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FB1-B79E-46E4-85E0-C1A8BE12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FBB-DA6D-4A5B-8E26-3BE4C76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2B2-9707-4490-860C-A1F4F435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EDC-281F-4131-BEBF-B0BBA66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DF68-36EE-4418-A8CF-10360DAE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81080" y="-457200"/>
            <a:ext cx="11591640" cy="8372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3200400" cy="170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457200" y="41911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876920" y="-304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09480" y="-457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-1219320" y="-685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92400" y="75042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Abby and Is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3200400"/>
            <a:ext cx="26751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6:46:15Z</dcterms:created>
  <dc:creator>user</dc:creator>
  <dc:description/>
  <dc:language>en-US</dc:language>
  <cp:lastModifiedBy>user</cp:lastModifiedBy>
  <dcterms:modified xsi:type="dcterms:W3CDTF">2012-02-07T16:48:14Z</dcterms:modified>
  <cp:revision>1</cp:revision>
  <dc:subject/>
  <dc:title>Slide 1</dc:title>
</cp:coreProperties>
</file>